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36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50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35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31.png" ContentType="image/png"/>
  <Override PartName="/ppt/media/image30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13.png" ContentType="image/png"/>
  <Override PartName="/ppt/media/image54.jpeg" ContentType="image/jpeg"/>
  <Override PartName="/ppt/media/image38.png" ContentType="image/png"/>
  <Override PartName="/ppt/media/image8.png" ContentType="image/png"/>
  <Override PartName="/ppt/media/image4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58D-AF5D-45C5-989A-F6A08FB27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more complex model using the “MAX”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more complex model using the “MAX”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PM – Wake up and hit the lunch crowds in Soho and the West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PM – Target Wall Street executives returning from late lunches, as well as those leaving their off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M – Travel north to Lincoln Center and solicit concert attendees as well as evening diners on the U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AM – Venture south to the Lower East Side for 21 minutes of begging followed by 3 hours of “pharmacolog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M – Head north to East Midtown to rest and feed (in preparation for the morning rus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M – Hop over to Times Square and the Midtown business district to catch people during their morning comm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M – Return to the West Village for 3+ hours of quality sack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PM – Wake up and hit the lunch crowds in Soho and the West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PM – Target Wall Street executives returning from late lunches, as well as those leaving their off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M – Travel north to Lincoln Center and solicit concert attendees as well as evening diners on the U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AM – Venture south to the Lower East Side for 21 minutes of begging followed by 3 hours of “pharmacolog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M – Head north to East Midtown to rest and feed (in preparation for the morning rus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M – Hop over to Times Square and the Midtown business district to catch people during their morning comm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M – Return to the West Village for 3+ hours of quality sack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9A4-9784-4A99-B6CD-5EB20422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9EB-5B9B-4A69-92B9-C16F514E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0A6-C7F1-4444-8DDA-8CCE5843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B37-B423-47D9-ABCB-8ACDF2C2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155-7D36-47C5-B123-92F106B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BD0-7CA8-45C0-B597-2597D021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6C4-65C5-4456-AC5B-162C71F4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47B-8670-42A7-A031-64A887BD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BC9-B5BE-4924-BE39-17B8779C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1CB-0B9B-4221-A412-ACB3322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CA2-F60C-4FD7-9AB7-03315141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896-422F-4D51-9D6B-8A819A4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762120" y="4361040"/>
            <a:ext cx="4267440" cy="362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2449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kground   |   Problem 1   |   Problem 2   |   Problem 3   |   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ECB0-D4E1-4F89-9D7B-B105EB52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19.png"/><Relationship Id="rId17" Type="http://schemas.openxmlformats.org/officeDocument/2006/relationships/image" Target="../media/image22.png"/><Relationship Id="rId18" Type="http://schemas.openxmlformats.org/officeDocument/2006/relationships/image" Target="../media/image24.png"/><Relationship Id="rId19" Type="http://schemas.openxmlformats.org/officeDocument/2006/relationships/image" Target="../media/image26.png"/><Relationship Id="rId20" Type="http://schemas.openxmlformats.org/officeDocument/2006/relationships/image" Target="../media/image28.png"/><Relationship Id="rId21" Type="http://schemas.openxmlformats.org/officeDocument/2006/relationships/image" Target="../media/image30.png"/><Relationship Id="rId22" Type="http://schemas.openxmlformats.org/officeDocument/2006/relationships/image" Target="../media/image32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image" Target="../media/image54.jpeg"/><Relationship Id="rId10" Type="http://schemas.openxmlformats.org/officeDocument/2006/relationships/image" Target="../media/image48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anhattan Graduate Student Survival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bulous Life of O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6172200"/>
            <a:ext cx="7086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62120" y="41148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B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 Dov G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ith Lansak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e Pushcin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Yu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62120" y="4362480"/>
            <a:ext cx="42674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4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124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5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505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6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886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7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267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8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9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029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0: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5410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1: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5791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2: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commendation Would Decrease Ori’s Utility by ~70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8288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80,2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tils of joy a month, we are deeply concerned for Ori’s mental well be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124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ed NYU Health Counselor: (212) 998-47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191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agerial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ing Ori, he will excee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ed budget; By 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By How Much will Ori Exceed Budg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05740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probability tree to determine the expected value of necessary future 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were based on Ori and his visitors’ historical behavior and budgeta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values for breaking the budget due to “controllable” and “uncontrollable” events were considered to be normally distribu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to implement and run a MC due to @RISK version limitation.  That was fu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’t see the Tree for the Fores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6^3 = 216 end nodes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61400" y="1676520"/>
            <a:ext cx="573120" cy="4504680"/>
            <a:chOff x="7961400" y="1676520"/>
            <a:chExt cx="573120" cy="450468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8114040" y="1752480"/>
              <a:ext cx="420480" cy="44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961400" y="1676520"/>
              <a:ext cx="3812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359080" y="1618200"/>
            <a:ext cx="6295680" cy="3182040"/>
            <a:chOff x="2359080" y="1618200"/>
            <a:chExt cx="6295680" cy="318204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rcRect l="18753" t="39632" r="31223" b="18753"/>
            <a:stretch/>
          </p:blipFill>
          <p:spPr>
            <a:xfrm>
              <a:off x="2359080" y="1752480"/>
              <a:ext cx="4879800" cy="3044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7238880" y="1618200"/>
              <a:ext cx="1415880" cy="3182040"/>
              <a:chOff x="7238880" y="1618200"/>
              <a:chExt cx="1415880" cy="3182040"/>
            </a:xfrm>
          </p:grpSpPr>
          <p:sp>
            <p:nvSpPr>
              <p:cNvPr id="145" name=""/>
              <p:cNvSpPr/>
              <p:nvPr/>
            </p:nvSpPr>
            <p:spPr>
              <a:xfrm>
                <a:off x="7238880" y="174312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7238880" y="1904760"/>
                <a:ext cx="1295640" cy="289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05920" y="1752480"/>
                <a:ext cx="22860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0800000">
                <a:off x="7238880" y="1752120"/>
                <a:ext cx="1371600" cy="3048120"/>
              </a:xfrm>
              <a:prstGeom prst="rtTriangle">
                <a:avLst/>
              </a:pr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3741600">
                <a:off x="8308080" y="1746000"/>
                <a:ext cx="381240" cy="15228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43880" y="1743120"/>
                <a:ext cx="7632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3429000" y="1600200"/>
            <a:ext cx="1447920" cy="3962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1600200"/>
            <a:ext cx="1447920" cy="39625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0160" y="487692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rolla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0440" y="487692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ncontrol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240" y="2514600"/>
            <a:ext cx="3084480" cy="2838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 is expected to ex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budget by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721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ggested safety cash flow is therefore set at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678.47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s Ori still had $43.14 left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nsidered the following sources of alternate fu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t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ch Surfing while Subletting A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toring CBS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online Ga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ing 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ing 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ling Se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ituting his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macolog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What Is The Ideal Source of Alternate Inc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5638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Seek was unable to identify the ideal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nhandling and “Pharmacology” are Best Sources for Alternate F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765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a More Complex Model Using Excel’s “MAX()”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49160" y="2585880"/>
            <a:ext cx="778536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10800000">
            <a:off x="7238880" y="4203720"/>
            <a:ext cx="1828800" cy="990720"/>
          </a:xfrm>
          <a:prstGeom prst="rightArrow">
            <a:avLst>
              <a:gd name="adj1" fmla="val 50000"/>
              <a:gd name="adj2" fmla="val 4614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289584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69110" t="83922" r="17618" b="6434"/>
          <a:stretch/>
        </p:blipFill>
        <p:spPr>
          <a:xfrm>
            <a:off x="5486400" y="4191120"/>
            <a:ext cx="236232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33520" y="5105520"/>
            <a:ext cx="8076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agerial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e revenues through Pan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Pharmacology” is a close seco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1447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97920" y="1871640"/>
            <a:ext cx="710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15 NYC districts to targe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in Manhattan, 3 in Brooklyn, and 1 in Qu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d foot traffic patterns for each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opStop.com to estimate trave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t least 2 hours of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mised logically sound methods of formulating expected reven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e it on the street or in trans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Maximize Revenues Through Pan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094" t="19752" r="37506" b="11503"/>
          <a:stretch/>
        </p:blipFill>
        <p:spPr>
          <a:xfrm>
            <a:off x="5754600" y="3927600"/>
            <a:ext cx="2322720" cy="201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2344" t="18753" r="40887" b="53133"/>
          <a:stretch/>
        </p:blipFill>
        <p:spPr>
          <a:xfrm>
            <a:off x="2494080" y="3886200"/>
            <a:ext cx="2209680" cy="820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4688" t="18753" r="38255" b="12502"/>
          <a:stretch/>
        </p:blipFill>
        <p:spPr>
          <a:xfrm>
            <a:off x="2494080" y="4343400"/>
            <a:ext cx="2230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 Panhandl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722920" cy="134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3473640" cy="126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3728880" cy="2549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04880" y="2093760"/>
            <a:ext cx="23526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Foot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35680" y="3100320"/>
            <a:ext cx="24408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 Costs (Time/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4267080"/>
            <a:ext cx="434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route/schedule is expected to yield as much a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753.5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5827680"/>
            <a:ext cx="56610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 Ori were to deal in “Pharmaceuticals,” as w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5283360" cy="1425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Panhandling ”Pharmacology”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24720" y="2133720"/>
            <a:ext cx="26755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icipal Demo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112160" y="3873600"/>
            <a:ext cx="2031840" cy="2984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36800" y="5996160"/>
            <a:ext cx="1563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3738600" cy="2398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17600" y="4495680"/>
            <a:ext cx="22352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 G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03760" y="5562720"/>
            <a:ext cx="2526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this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572000" y="3871800"/>
                <a:ext cx="609588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venue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venu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reet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venu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nsit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venu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rma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  <m:sup/>
                          <m:e>
                            <m:r>
                              <m:t xml:space="preserve">$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affi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oot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nsi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HIR</m:t>
                                </m:r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VR</m:t>
                                </m:r>
                              </m:e>
                            </m:rad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  <m:sup/>
                          <m:e>
                            <m:r>
                              <m:t xml:space="preserve">$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affi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rigin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affi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estination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nsit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rma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  <m:sup/>
                          <m:e>
                            <m:r>
                              <m:t xml:space="preserve">$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×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raffi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oot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nsi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DAR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3886200" y="3352680"/>
            <a:ext cx="434340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the additional revenue generating opportunity, this strategy is expected to yield as much a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945.56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da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36959" r="0" b="0"/>
          <a:stretch/>
        </p:blipFill>
        <p:spPr>
          <a:xfrm>
            <a:off x="6134040" y="1676520"/>
            <a:ext cx="262908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rcRect l="0" t="36994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0" t="37012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4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5"/>
          <a:srcRect l="0" t="37253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6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7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8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9"/>
          <a:srcRect l="0" t="36998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10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1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12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13"/>
          <a:srcRect l="0" t="36906" r="0" b="0"/>
          <a:stretch/>
        </p:blipFill>
        <p:spPr>
          <a:xfrm>
            <a:off x="6130800" y="1674720"/>
            <a:ext cx="2632320" cy="442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14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15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Ori Generate $945.5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Week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ho and West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P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ll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P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coln Center, U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handle 21 mins in LES, Street Pharmacist for 3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st Mid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Square, Mid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 to the West Village for 3+ hours of quality sack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Agenda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 ODG Survive the Next 3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9560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ground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donistic life of O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rial Problem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elp Ori budget for the following 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rial Problem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ill Ori adhere to the budg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agerial Problem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xplore alternate sources of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will Ori Generate $945.5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Week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ho and West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P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ll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P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coln Center, U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nhandle 21 mins in LES, Street Pharmacist for 3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st Mid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 Square, Mid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A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 to the West Village for 3+ hours of quality sack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36959" r="0" b="0"/>
          <a:stretch/>
        </p:blipFill>
        <p:spPr>
          <a:xfrm>
            <a:off x="6134040" y="1676520"/>
            <a:ext cx="262908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0" t="36994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3"/>
          <a:srcRect l="0" t="37012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4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5"/>
          <a:srcRect l="0" t="37253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6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7"/>
          <a:srcRect l="0" t="36987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8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9"/>
          <a:srcRect l="0" t="36998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10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11"/>
          <a:srcRect l="0" t="37001" r="0" b="0"/>
          <a:stretch/>
        </p:blipFill>
        <p:spPr>
          <a:xfrm>
            <a:off x="6130800" y="1676520"/>
            <a:ext cx="263232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12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13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14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15"/>
          <a:srcRect l="0" t="36934" r="0" b="0"/>
          <a:stretch/>
        </p:blipFill>
        <p:spPr>
          <a:xfrm>
            <a:off x="6130800" y="1676520"/>
            <a:ext cx="263232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5181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6"/>
          <a:srcRect l="48894" t="5000" r="15555" b="79995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17"/>
          <a:srcRect l="48894" t="5000" r="15555" b="79995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18"/>
          <a:srcRect l="48894" t="5000" r="15555" b="79995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19"/>
          <a:srcRect l="48894" t="5000" r="15555" b="79999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0"/>
          <a:srcRect l="48894" t="5000" r="15555" b="79995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21"/>
          <a:srcRect l="48894" t="5000" r="15555" b="79999"/>
          <a:stretch/>
        </p:blipFill>
        <p:spPr>
          <a:xfrm>
            <a:off x="8153280" y="1676520"/>
            <a:ext cx="6098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2"/>
          <a:srcRect l="48337" t="5000" r="14997" b="79999"/>
          <a:stretch/>
        </p:blipFill>
        <p:spPr>
          <a:xfrm>
            <a:off x="8134200" y="1676520"/>
            <a:ext cx="62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News Ladies: ODG Can Survive His Financial Crisis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4400" y="19051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 should adhere to our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xpect that ODG will exceed the budget by around $1,721.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handling for just over 2 days – or just under 2 days, should he be willing to take on a “pharmaceutical” role – would provide the requisite safety cush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5257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573360" y="2021040"/>
            <a:ext cx="5494320" cy="4760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3811680" cy="7509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3004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1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5603760" cy="4759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267080" y="2133720"/>
            <a:ext cx="381168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8116920" y="1514520"/>
            <a:ext cx="573120" cy="4505400"/>
            <a:chOff x="8116920" y="1514520"/>
            <a:chExt cx="573120" cy="450540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8269560" y="1590840"/>
              <a:ext cx="42048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116920" y="1514520"/>
              <a:ext cx="381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rcRect l="18753" t="39632" r="31223" b="18753"/>
          <a:stretch/>
        </p:blipFill>
        <p:spPr>
          <a:xfrm>
            <a:off x="2514600" y="1590840"/>
            <a:ext cx="4879800" cy="304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53" name=""/>
          <p:cNvGrpSpPr/>
          <p:nvPr/>
        </p:nvGrpSpPr>
        <p:grpSpPr>
          <a:xfrm>
            <a:off x="7394400" y="1456200"/>
            <a:ext cx="1415880" cy="3182040"/>
            <a:chOff x="7394400" y="1456200"/>
            <a:chExt cx="1415880" cy="3182040"/>
          </a:xfrm>
        </p:grpSpPr>
        <p:sp>
          <p:nvSpPr>
            <p:cNvPr id="254" name=""/>
            <p:cNvSpPr/>
            <p:nvPr/>
          </p:nvSpPr>
          <p:spPr>
            <a:xfrm>
              <a:off x="7394400" y="1581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394400" y="1742760"/>
              <a:ext cx="129564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61440" y="1590480"/>
              <a:ext cx="228600" cy="228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rot="10800000">
              <a:off x="7394400" y="1590120"/>
              <a:ext cx="1371600" cy="3048120"/>
            </a:xfrm>
            <a:prstGeom prst="rtTriangl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3741600">
              <a:off x="8463600" y="1584000"/>
              <a:ext cx="381240" cy="152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99400" y="1581120"/>
              <a:ext cx="763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6320" y="4672080"/>
            <a:ext cx="5000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908600" cy="5267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716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191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85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556840" cy="2009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69516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7216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’s Hedonistic Lifestyle is Beyond his Current Financia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248520"/>
            <a:ext cx="129528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57914"/>
          <a:stretch/>
        </p:blipFill>
        <p:spPr>
          <a:xfrm>
            <a:off x="3124080" y="1676520"/>
            <a:ext cx="5740560" cy="336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41356" r="27723" b="34320"/>
          <a:stretch/>
        </p:blipFill>
        <p:spPr>
          <a:xfrm>
            <a:off x="4718160" y="3343320"/>
            <a:ext cx="4159080" cy="194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90920" y="2209680"/>
            <a:ext cx="54864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verage Monthly Expens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$10,878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85840"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 needs survive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his next loan dis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 rot="2062200">
            <a:off x="-228240" y="2209320"/>
            <a:ext cx="598176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912200">
            <a:off x="2057040" y="4952880"/>
            <a:ext cx="6094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4876920"/>
            <a:ext cx="51814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agerial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ould Ori live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6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next 3 month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4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x: Model 4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36560" y="1828800"/>
            <a:ext cx="772164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04920" y="352440"/>
            <a:ext cx="8572320" cy="6429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2362320" y="3124080"/>
            <a:ext cx="7238880" cy="4419720"/>
            <a:chOff x="2362320" y="3124080"/>
            <a:chExt cx="7238880" cy="4419720"/>
          </a:xfrm>
        </p:grpSpPr>
        <p:sp>
          <p:nvSpPr>
            <p:cNvPr id="279" name=""/>
            <p:cNvSpPr/>
            <p:nvPr/>
          </p:nvSpPr>
          <p:spPr>
            <a:xfrm>
              <a:off x="2362320" y="3124080"/>
              <a:ext cx="7238880" cy="4419720"/>
            </a:xfrm>
            <a:prstGeom prst="irregularSeal1">
              <a:avLst/>
            </a:prstGeom>
            <a:solidFill>
              <a:srgbClr val="ffffff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733920" y="4800600"/>
              <a:ext cx="4368240" cy="914400"/>
              <a:chOff x="3733920" y="4800600"/>
              <a:chExt cx="4368240" cy="914400"/>
            </a:xfrm>
          </p:grpSpPr>
          <p:pic>
            <p:nvPicPr>
              <p:cNvPr id="2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93800" y="5256360"/>
                <a:ext cx="46044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71840" y="5211000"/>
                <a:ext cx="5558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18000" y="4947480"/>
                <a:ext cx="350280" cy="76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33920" y="4800600"/>
                <a:ext cx="65736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845840" y="4810320"/>
                <a:ext cx="256320" cy="90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668280" y="5200560"/>
                <a:ext cx="620280" cy="51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830560" y="5211000"/>
                <a:ext cx="48960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855680" y="5220720"/>
                <a:ext cx="416160" cy="49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87480" y="5211000"/>
                <a:ext cx="555480" cy="500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0" name=""/>
          <p:cNvSpPr/>
          <p:nvPr/>
        </p:nvSpPr>
        <p:spPr>
          <a:xfrm>
            <a:off x="-1066680" y="1066680"/>
            <a:ext cx="4419360" cy="4191120"/>
          </a:xfrm>
          <a:prstGeom prst="star5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385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385" fill="hold"/>
                                        <p:tgtEl>
                                          <p:spTgt spid="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6" dur="38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8" dur="38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remove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8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83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828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For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84120" y="2475000"/>
            <a:ext cx="704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t Maslowe’s hierarchy for physiological nee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thing, food, drink, sex, sleep, homeostasis, ex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variables for 1 food and 1 beverage per 3 daily me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lthough lunch may be mis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ly, 1 nightly activity (which may be just staying at h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s and associated Utilities recorded for each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sts include rent &amp; power totaling $2142.9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al is to minimize Ori’s monthly budget over the next quarte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utility be damm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 What is the minimum monthly rate for Ori’s Surviv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175248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fast: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: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n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1760" y="2365200"/>
            <a:ext cx="38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fas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erios,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200" y="2971800"/>
            <a:ext cx="33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n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e,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560" y="432756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43800" y="3124080"/>
            <a:ext cx="14479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560560" y="26510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for wimps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666880"/>
            <a:ext cx="2057400" cy="381240"/>
          </a:xfrm>
          <a:prstGeom prst="wedgeRectCallout">
            <a:avLst>
              <a:gd name="adj1" fmla="val 43518"/>
              <a:gd name="adj2" fmla="val 12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21316" r="0" b="32494"/>
          <a:stretch/>
        </p:blipFill>
        <p:spPr>
          <a:xfrm>
            <a:off x="5638680" y="3657600"/>
            <a:ext cx="1500480" cy="990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32840" y="50403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.  Single. 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4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G Should Reduce Monthly Expenses by 80% to $2,152.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00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1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2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362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3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4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124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7136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 5:      $538.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676520"/>
            <a:ext cx="5105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752480"/>
            <a:ext cx="4952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 - Cheerios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“Lunch is for wimps!”,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e, Wa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ooty C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K.  You get the pi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6120" y="6248520"/>
            <a:ext cx="1143000" cy="533160"/>
          </a:xfrm>
          <a:prstGeom prst="rect">
            <a:avLst/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07:45:20Z</dcterms:created>
  <dc:creator>Gratch, Ori Dov</dc:creator>
  <dc:description/>
  <dc:language>en-US</dc:language>
  <cp:lastModifiedBy>Gratch, Ori Dov</cp:lastModifiedBy>
  <dcterms:modified xsi:type="dcterms:W3CDTF">2007-12-03T17:42:03Z</dcterms:modified>
  <cp:revision>54</cp:revision>
  <dc:subject/>
  <dc:title>Slide 1</dc:title>
</cp:coreProperties>
</file>